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8F26-A47D-41B6-AF48-C23BCE15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uestion sheet for Q4L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was in denial for a while, but after Nathan’s confrontation, he felt the full weight of a heavily burdened conscience.  He could have seared his conscience, but these psalms show beyond all doubt what a contrite hear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want to read and comment upon the identifying marks of godly sorrow and repentance as Paul describes it in 2 Cor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quite a difference between Saul and David.  Saul illustrates the sorrow of the world and David illustrates godly s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ew Testament example of godly sorrow versus the sorrow of the world may be in the way Judas handled his guilt versus the way Peter handled his gui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as’ guilt led to self-de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’s guilt led to repentance and renewal of commi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ly make note again of the features you see in this penitent expression in psa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ssing sins is not just a mere admission of guilt, but a genuinely sorrowful appeal for cleansing, reconciliation, and renewal of commi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is preached now through the death and resurrection of Je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should be greatly appreciated.  It is the means of clearing the conscience without searing it or ruin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way we can overcome the accuser, Satan, in his desire to bring charges as to why we deserve Hell the same as 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need to clear the record from time to tim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a forgiven person has to suffer consequences in this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dict can be forgiven, yet still have to live with the consequences of what he has done to his mind and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erer can be forgiven, and yet still have to live with the earthly consequences of his 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consequences to sowing to the fle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eternal consequences to searing the conscience and not getting forgiveness of 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46C-782E-4BCE-BDF7-652A562D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781-2E21-4DA4-8DB8-FB699DA7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81F-E5F0-4632-B5DC-4C8B62AC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0CC-8757-42EF-969B-5F7595BE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768-8F43-4F7A-81D4-A9224665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D6C-4C30-42BA-B734-497D053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078-57B5-4042-B9C8-B8CE803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D592-C460-434E-B320-A239B10A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1757-C801-4A9A-A62F-6A59D3C8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B8F1-E991-49F8-90C9-E25AD5E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6444-17AD-433B-8501-38A6E41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671-9511-494E-AC35-E89C84E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A8CF-B8CA-47D4-ACD2-56434B6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FC04-0E83-423A-8369-B866EF54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865-C0F4-4E8A-B709-9ABE27EA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735A-0E19-43ED-A497-27728401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71C-C279-4DFB-B447-EB9FD386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F5F-F663-4B9D-9DF5-B94D5B1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8D5-038D-4A3C-B17C-6C279E4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241-294B-43A4-8516-7918117C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E8D-2ECB-4D75-8640-5871B101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B78-9628-49E0-8867-6710C24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4D6-665F-43C4-A7E0-36720F9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9F6-20C2-4175-8674-F4F9DD5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26D1-8F82-4813-9A11-B8F6D180EB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8E1-71F0-4E70-B241-18089949E0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Give Us A King</a:t>
            </a:r>
            <a:br>
              <a:rPr sz="5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United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4, Lesson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alm 6,38,51,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g.77-8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s Reflecting Godly Sor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ay a righteous man feels after he has sin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Saul ever feel this w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n’t this show that David is still indeed a “man after God’s own heart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oken and contrite heart is what God wanted and what David off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6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ayer of one who lies awake in grief because of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renches his couch with tears – 6,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his enemies, especially Satan, is proud to have an accusation against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that with God’s grace and mercy he will be able to overcome even t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3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feels God’s arrows deeply in his heart 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God’s wrath is against his sin 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burdened with his iniquities –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his actions to have been utter “foolishness” 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David’s heart contrast with the heart of Sau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5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arnest prayer for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ly sorrow is mostly sorrowful for the way one has hurt and disappointed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y sorrow is mostly concerned about self, getting caught, or hurting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hows what it means to “confess” your sins (1 Jno.1:7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lean heart and a clean slate is found in God’s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3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salm of praise for God’s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giveness of sins is a tremendous bl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l need it from time to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the core need of man that is fully addressed and satisfied in the gos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sequences of David’s Si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word would never depart from hi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ble would arise within his own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ould feel the pain of someone violating his w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l the pain in the loss of his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reap what we s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one gets away with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giveness is wonderful when we truly repent of 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we cannot erase the consequences that often comes in this life even when the conscience is cleared before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0:33:22Z</dcterms:created>
  <dc:creator>Terry W. Benton</dc:creator>
  <dc:description/>
  <dc:language>en-US</dc:language>
  <cp:lastModifiedBy>Terry W. Benton</cp:lastModifiedBy>
  <dcterms:modified xsi:type="dcterms:W3CDTF">2005-06-21T02:56:48Z</dcterms:modified>
  <cp:revision>3</cp:revision>
  <dc:subject/>
  <dc:title>Give Us A King The United Kingdom</dc:title>
</cp:coreProperties>
</file>